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9EF-8E7F-4841-9BFA-4DF2957E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03C-F26D-4454-BDDB-BF2CDE61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603-BAC8-42C3-8961-4CC4B4A8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BCA-F20E-4C86-8C34-B765ABA7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F884-34DB-4A17-A5CA-6931DB75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0715-8E62-4214-9F71-F4832DC0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4B43-403C-41C7-B4A1-9FA99F39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DD3C-1115-4CC6-A991-93476C83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86DE-F672-488A-8476-2A418E9E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0F6F-2456-4859-83C3-1C886F1E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B64C-7F54-4531-A7EE-DE82AC88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2FA-B927-4686-8370-563FBE6C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C914-7F42-424F-B8C3-A3C2705C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E777-9F50-48EC-AE2A-815CA2D4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982D-2B19-48ED-A682-A0B2FA80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7C56-FC99-4A5A-9430-08C9506A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A66A-BCCD-4BAB-97E9-3FC706DC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B21B-DBE4-4E8C-93C2-A50326D6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0E7D-18C6-406A-A13E-D828983B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DDE0-4B5A-4B07-AEC8-1C08FC64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B1A6-122A-4D85-A9CF-64A65183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9FE2-0F37-45C8-9A76-A1C42FCB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0B0-6542-4A47-8775-636C5C7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2998D-3D8E-4D4F-B087-B7D9D5E0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6744-3B63-4871-A4D5-662A72E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5567-E48A-42A5-9B08-54BC34A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8273-362C-4B93-90C6-C9881017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EB12-0D8C-43DF-B87F-0A1C9C49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90CB-1CDC-42FE-BBE0-E3A35796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89F7-D9CF-4947-A2FC-E45C3C47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BD84B-D458-42EC-B52E-A3CB8DA0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8B90-C824-48C2-A3A9-3D16CF12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9B8F-82CD-4DE1-B5C7-28DB41B6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B47-4117-439C-A824-7410951F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6C4A-6853-4A2D-8B31-95C75112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233E-8F0F-49B2-ADBC-6B5D14FF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91D8-8EA8-4184-977C-EE1CE85C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76C0-B9B9-4A29-9EA5-69B2189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BE24F-D3BB-4D21-9FC3-EAAFED60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DC16-4923-4BBA-996F-E15DF1D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9AB9-6B5E-436F-8DDC-7D9D55C0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0B84-7C7E-40CD-BD1A-22505E72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542B-DB36-43D2-BDC6-B5376FB6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57E44-701C-475E-B8B2-ECBBE5D7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712-7C43-48CB-8A44-A678FB3F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0306-FAB7-4F20-BD3F-CEC529DB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13BF-2DC7-4B7F-9B48-9071F245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480BD-ACC5-4A33-9307-A5B8F83F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A2B99-35EF-4386-9C2D-E3D91888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7D5C-497B-4044-849A-74DDCB16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6C9AF-F803-4A0F-AD01-A1AE3B9B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C0C67-D7BC-466F-B820-DD6EA889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7C94-A1FB-487E-9048-60C71C6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CED7-1B91-4055-A1D1-F3E2498D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C672-424F-42BF-81AC-2C4B21BD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E94-DFD1-4143-B0E7-DBA39563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8BEFC-4F8C-4F3B-AD7A-4ABE481C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A2D-8396-47C8-AB7F-0B3EC3E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0E3-AACF-420E-8CF0-0FA0A188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231-2C0B-4673-9395-945756F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7667-5D8B-4CDD-B1E7-EBA9BE78ED7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F940-5C76-4714-B802-B5DCE5C6BB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3363-B3BF-4D3D-B9BB-BAE6D12A617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F876-6DB8-45BB-8671-D1962B5E2E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4F8A-D2D3-4EB4-9381-A2BE441EC4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Arial Black"/>
              </a:rPr>
              <a:t>JODELJIM M. GUMAPA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Arial Black"/>
                <a:ea typeface="Arial"/>
              </a:rPr>
              <a:t>GRADE 6, ROOM 6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Arial Black"/>
                <a:ea typeface="Arial"/>
              </a:rPr>
              <a:t>June 6, 2011 to March 19, 201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shley Crawford"/>
              </a:rPr>
              <a:t>ILIGAN CITY SDA ELEMENTARY SCHOOL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Franklin Gothic Book"/>
              </a:rPr>
              <a:t>Class Policies and Rules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 of the Philippine Archipelago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tional Hero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gnificant Events in histor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2" descr="C:\Users\mcgrey\Desktop\001_1921.jpg"/>
          <p:cNvPicPr/>
          <p:nvPr/>
        </p:nvPicPr>
        <p:blipFill>
          <a:blip r:embed="rId1"/>
          <a:stretch/>
        </p:blipFill>
        <p:spPr>
          <a:xfrm>
            <a:off x="4572000" y="1905120"/>
            <a:ext cx="4289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Social Studies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 of the Philippine Archipelago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tional Hero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gnificant Events in histor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2" descr="C:\Users\mcgrey\Desktop\001_1921.jpg"/>
          <p:cNvPicPr/>
          <p:nvPr/>
        </p:nvPicPr>
        <p:blipFill>
          <a:blip r:embed="rId1"/>
          <a:stretch/>
        </p:blipFill>
        <p:spPr>
          <a:xfrm>
            <a:off x="4572000" y="1905120"/>
            <a:ext cx="4289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Science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52880" y="152388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/Philosophy of Scienc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Life Scienc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hysical Scienc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C:\Users\mcgrey\Desktop\office_nerd_-_abstract_CoolClips_peop2425.jpg"/>
          <p:cNvPicPr/>
          <p:nvPr/>
        </p:nvPicPr>
        <p:blipFill>
          <a:blip r:embed="rId1"/>
          <a:stretch/>
        </p:blipFill>
        <p:spPr>
          <a:xfrm>
            <a:off x="914400" y="1447920"/>
            <a:ext cx="35719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Mathematics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2880" y="152388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 of Mathematic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ercent, Fraction and decimal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troduction of Integers and exponent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2" descr="C:\Users\mcgrey\Desktop\images.jpg"/>
          <p:cNvPicPr/>
          <p:nvPr/>
        </p:nvPicPr>
        <p:blipFill>
          <a:blip r:embed="rId1"/>
          <a:stretch/>
        </p:blipFill>
        <p:spPr>
          <a:xfrm>
            <a:off x="1066680" y="1905120"/>
            <a:ext cx="37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Languages and Art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52388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 of langua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Reading and writings skill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Oral communic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cgrey\Desktop\language-arts-reading-material.jpg"/>
          <p:cNvPicPr/>
          <p:nvPr/>
        </p:nvPicPr>
        <p:blipFill>
          <a:blip r:embed="rId1"/>
          <a:stretch/>
        </p:blipFill>
        <p:spPr>
          <a:xfrm>
            <a:off x="4572000" y="1828800"/>
            <a:ext cx="4035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Values Education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52388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haracter and ethic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ocial responsibilit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Picture 2" descr="C:\Users\mcgrey\Desktop\Values-Education-Show-for-Queensland-Schools-The-THUMB-Show-82787_image.jpg"/>
          <p:cNvPicPr/>
          <p:nvPr/>
        </p:nvPicPr>
        <p:blipFill>
          <a:blip r:embed="rId1"/>
          <a:stretch/>
        </p:blipFill>
        <p:spPr>
          <a:xfrm>
            <a:off x="4937040" y="1828800"/>
            <a:ext cx="36734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Perpetua"/>
              </a:rPr>
              <a:t>After the class duration, the students is expected to learn the subject matter for the sixth grade curriculum and be prepared for the seventh grade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ranklin Gothic Book"/>
              </a:rPr>
              <a:t>Goals and Objectives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1:56:57Z</dcterms:created>
  <dc:creator>mcgrey</dc:creator>
  <dc:description/>
  <dc:language>en-US</dc:language>
  <cp:lastModifiedBy>mcgrey</cp:lastModifiedBy>
  <dcterms:modified xsi:type="dcterms:W3CDTF">2011-10-03T05:02:59Z</dcterms:modified>
  <cp:revision>18</cp:revision>
  <dc:subject/>
  <dc:title>ILIGAN CITY SDA ELEMENTARY SCHOOL</dc:title>
</cp:coreProperties>
</file>